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5.wmf" ContentType="image/x-wmf"/>
  <Override PartName="/ppt/media/image27.jpeg" ContentType="image/jpeg"/>
  <Override PartName="/ppt/media/image7.jpeg" ContentType="image/jpeg"/>
  <Override PartName="/ppt/media/image28.jpeg" ContentType="image/jpeg"/>
  <Override PartName="/ppt/media/image18.png" ContentType="image/png"/>
  <Override PartName="/ppt/media/image19.jpeg" ContentType="image/jpeg"/>
  <Override PartName="/ppt/media/image6.wmf" ContentType="image/x-wmf"/>
  <Override PartName="/ppt/media/image29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31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5.wmf" ContentType="image/x-wmf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22.jpeg" ContentType="image/jpeg"/>
  <Override PartName="/ppt/media/image9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8BC3-5D44-46E4-A4C3-8F815E8F4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A5E2-A5AB-4FC1-9751-AFAEB1F96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33E7-F139-4B99-840B-07374AAA6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83DC-E57E-4647-AF06-A8C145D9C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8677-2C6E-487D-8F37-7158ABDFE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75B7-A448-4546-AB35-9D526F4A1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DE0C-F12B-4490-9354-FA822E1BF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909B-78BA-4530-89D0-5C6EA8F92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7CF0-B016-4FDA-8E98-736231449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615-0BB1-483A-9578-0F89C1EA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D05-06C3-426C-952F-0B309A29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3CF-3254-44C8-B093-B98D43B3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49B-E501-4803-833E-E19951B4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09D3-850D-4ECC-877D-54597BC0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5FE0-2F93-4BB1-9B48-8764BD35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8DB8-5E5B-4886-849C-34ACE9CF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FA03-8BAF-4086-80B8-0DC046E4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2627-DB03-4227-97EC-3BAEA271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4225-B2E9-44A6-A7EF-5536E0F4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D8F1-0D79-4C4B-AB33-868424FB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2AB-43CE-4A68-97D7-71FD68D1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B521-AD35-408B-9FF7-83888C70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BEB0-9C5A-4682-92B9-494874DA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E615-C04E-4BFA-8BB0-47E5B00A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78F3-31DE-4D71-BE95-BB2ECB94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F1C5-8EF7-4ADD-A95F-11A0376D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8ED-A841-463C-BE16-49524A0E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291-8FC6-46E2-88D3-FFEA6CE9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659-6EF6-4E73-9490-B1EBBD31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4EE-2C4F-4AC6-A8BA-C2A584DA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A81-5168-461F-8D73-0B97DB9D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6FD-81B2-4462-988D-558A0DD6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2F5-D60E-422E-BA98-A1B2A7C2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2E84-C971-445E-9960-18632CBFE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5DDD-4BDB-43C9-9944-B59649D6D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Keep It Sa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567D-E50B-4814-AD3B-80802F7750E4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dic.gov/deposit/deposits" TargetMode="External"/><Relationship Id="rId2" Type="http://schemas.openxmlformats.org/officeDocument/2006/relationships/hyperlink" Target="http://www.myfdicinsurance.gov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Keep It Safe title slide with FDIC Money Smart logo and module logo of a sa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228600" y="83808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</a:rPr>
              <a:t>Keep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219240" y="205740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Saf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otecting Deposit Accou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987480"/>
            <a:ext cx="7010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876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76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DIC insures funds in deposit accounts, including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c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av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Market Deposit Accounts (MM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ertificates of Deposit (C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Person filling out a check"/>
          <p:cNvPicPr/>
          <p:nvPr/>
        </p:nvPicPr>
        <p:blipFill>
          <a:blip r:embed="rId1"/>
          <a:stretch/>
        </p:blipFill>
        <p:spPr>
          <a:xfrm>
            <a:off x="6594480" y="190512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urance Cover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verage is based o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nership categ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ngle accou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Join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vocable trus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82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ertain retiremen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ndard Maximum Deposit Insurance Amount (SMDIA), currently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Older couple reviewing information on a laptop"/>
          <p:cNvPicPr/>
          <p:nvPr/>
        </p:nvPicPr>
        <p:blipFill>
          <a:blip r:embed="rId1"/>
          <a:stretch/>
        </p:blipFill>
        <p:spPr>
          <a:xfrm>
            <a:off x="6781680" y="1371600"/>
            <a:ext cx="16765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dditional Insurance Coverage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dic.gov/deposit/deposi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l: 1-877-ASK-FD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lk to your bank representativ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e the Electronic Deposit Insurance Estimator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hlinkClick r:id="rId2"/>
              </a:rPr>
              <a:t>www.myfdicinsurance.gov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ingle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87480"/>
            <a:ext cx="6477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wned by one person and titled in that person’s name onl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ured up to the SMD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Man using ATM"/>
          <p:cNvPicPr/>
          <p:nvPr/>
        </p:nvPicPr>
        <p:blipFill>
          <a:blip r:embed="rId1"/>
          <a:stretch/>
        </p:blipFill>
        <p:spPr>
          <a:xfrm>
            <a:off x="7062840" y="1603440"/>
            <a:ext cx="1776240" cy="266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Joint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wned by two or more peopl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tled jointly in the co-owners’ nam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ured up to the SMDIA for each co-own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A couple reviews financial information with a financial professional "/>
          <p:cNvPicPr/>
          <p:nvPr/>
        </p:nvPicPr>
        <p:blipFill>
          <a:blip r:embed="rId1"/>
          <a:stretch/>
        </p:blipFill>
        <p:spPr>
          <a:xfrm>
            <a:off x="3200400" y="3809880"/>
            <a:ext cx="2587680" cy="1722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ertain Retirement Accou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nly the following are insured in this ownership categor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dividual Retirement Accounts (I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ction 457 deferred compensation plan accou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lf-directed, defined contribution plan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lf-directed Keogh plan (or HR 10 plan)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vocable Trust Account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987480"/>
            <a:ext cx="66294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64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7760" indent="-6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deposit accoun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eld as a payable on death (POD) or in trust for (ITF) acco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ished in the name of a formal revocable trust (living or family trust acco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Man pushing his daughter in a swing"/>
          <p:cNvPicPr/>
          <p:nvPr/>
        </p:nvPicPr>
        <p:blipFill>
          <a:blip r:embed="rId1"/>
          <a:stretch/>
        </p:blipFill>
        <p:spPr>
          <a:xfrm>
            <a:off x="7086600" y="190512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urance Coverage for Revocable Trust Account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9356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verage i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vided to the owner of the tr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the number of beneficiaries and the interests allocated to those beneficiaries, up to the insurance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all revocable trust deposits held by the same owner at the same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reda Roam has $1,400 in a savings account at Sawmill Savings &amp; Lo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mer Stead contributes $50 a month to an IRA through his emplo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arallelogram 3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Notched Right Arrow 4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ain Retirement Account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320040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vocable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205740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ingle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4724280" y="990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Join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Accou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4176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rey and Josie deposited $500 in a savings account together to start a college fund for their new ba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rcus’s grandmother opened a savings account with $2,500, from which Marcus will receive the proceeds in the event of her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arallelogram 5"/>
          <p:cNvSpPr/>
          <p:nvPr/>
        </p:nvSpPr>
        <p:spPr>
          <a:xfrm>
            <a:off x="533520" y="990720"/>
            <a:ext cx="7924680" cy="1523880"/>
          </a:xfrm>
          <a:prstGeom prst="parallelogram">
            <a:avLst>
              <a:gd name="adj" fmla="val -23769"/>
            </a:avLst>
          </a:prstGeom>
          <a:solidFill>
            <a:srgbClr val="447e32"/>
          </a:solidFill>
          <a:ln w="25560">
            <a:solidFill>
              <a:srgbClr val="3d712d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Notched Right Arrow 6"/>
          <p:cNvSpPr/>
          <p:nvPr/>
        </p:nvSpPr>
        <p:spPr>
          <a:xfrm rot="19931400">
            <a:off x="27000" y="2230560"/>
            <a:ext cx="1676520" cy="53316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5800 h 533160"/>
              <a:gd name="textAreaBottom" fmla="*/ 3873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19051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ain Retirement Account (I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3200400" y="1905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vocable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2057400" y="990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ingle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4724280" y="990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Join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Non-Deposit Investment 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87480"/>
            <a:ext cx="8153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DIC does not insure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n-deposit investment product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obert has a $10,000 CD and invested $10,000 in a mutual fund at a bank that f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is $10,000 (+ interest) for the CD is covered by FDIC, but not the $10,000 he invested in the mutual f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ivacy Not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d by law to explain how the company handles and shares your personal financial information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ypes of notic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itial Privacy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Privacy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tice of Changes in Privacy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9" descr="Notice and envelop"/>
          <p:cNvPicPr/>
          <p:nvPr/>
        </p:nvPicPr>
        <p:blipFill>
          <a:blip r:embed="rId1"/>
          <a:stretch/>
        </p:blipFill>
        <p:spPr>
          <a:xfrm>
            <a:off x="6095880" y="3124080"/>
            <a:ext cx="18446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ing Ou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the right to stop or “opt out” of some sharing of your personal financial information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o opt out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Cell phone"/>
          <p:cNvPicPr/>
          <p:nvPr/>
        </p:nvPicPr>
        <p:blipFill>
          <a:blip r:embed="rId2"/>
          <a:stretch/>
        </p:blipFill>
        <p:spPr>
          <a:xfrm>
            <a:off x="7086600" y="2819520"/>
            <a:ext cx="14000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Identity Thef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21932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n thieves steal your personal information and pretend to b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not detected early, you may face months or years cleaning up the damage to your reputation and credit rating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6172200" y="1676520"/>
            <a:ext cx="2590920" cy="3504960"/>
            <a:chOff x="6172200" y="1676520"/>
            <a:chExt cx="2590920" cy="3504960"/>
          </a:xfrm>
        </p:grpSpPr>
        <p:sp>
          <p:nvSpPr>
            <p:cNvPr id="207" name="TextBox 4"/>
            <p:cNvSpPr/>
            <p:nvPr/>
          </p:nvSpPr>
          <p:spPr>
            <a:xfrm>
              <a:off x="6248160" y="426708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Calibri"/>
                </a:rPr>
                <a:t>Identity theft is a serious problem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6172200" y="1676520"/>
              <a:ext cx="2590920" cy="3504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Picture 10" descr="Theif holding cash and credit card"/>
          <p:cNvPicPr/>
          <p:nvPr/>
        </p:nvPicPr>
        <p:blipFill>
          <a:blip r:embed="rId1"/>
          <a:stretch/>
        </p:blipFill>
        <p:spPr>
          <a:xfrm>
            <a:off x="6607080" y="1841400"/>
            <a:ext cx="1752840" cy="2401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25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mon For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ish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solicited emails that appear to be from a legitimat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ar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ke websites seeking personal or private information by appearing legi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kimm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pecial storage device used to obtain credit/debit card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ty Thef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819520" y="1874520"/>
            <a:ext cx="5943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deral Trade Commission (FTC)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Computer"/>
          <p:cNvPicPr/>
          <p:nvPr/>
        </p:nvPicPr>
        <p:blipFill>
          <a:blip r:embed="rId2"/>
          <a:stretch/>
        </p:blipFill>
        <p:spPr>
          <a:xfrm>
            <a:off x="506520" y="1554120"/>
            <a:ext cx="227952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Identity Theft Self-Check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 to each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lly your s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87080" y="9903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action immediate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cr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llow up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ID Theft Affidavit a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complaint with the F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verification that disputed accounts have been closed and fraudulent debts dis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Police badge"/>
          <p:cNvPicPr/>
          <p:nvPr/>
        </p:nvPicPr>
        <p:blipFill>
          <a:blip r:embed="rId2"/>
          <a:stretch/>
        </p:blipFill>
        <p:spPr>
          <a:xfrm>
            <a:off x="693432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010280" y="457200"/>
            <a:ext cx="2013120" cy="14479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raud Ale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itial fraud alert – 90 day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tended fraud alert – 7 yea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spective lenders must contact you to authorize any new account in your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ity freez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ust authorize any access to your credit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f Your Wallet/Purse is Lost or Stolen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8240" indent="-31680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ncel your credit cards immediatel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ce a fraud alert on your credit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the loss to your ban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major check verification compan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et a new ATM card with a new number and passwor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240" indent="-316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Wallet with cash and cards"/>
          <p:cNvPicPr/>
          <p:nvPr/>
        </p:nvPicPr>
        <p:blipFill>
          <a:blip r:embed="rId1"/>
          <a:stretch/>
        </p:blipFill>
        <p:spPr>
          <a:xfrm>
            <a:off x="7632720" y="990720"/>
            <a:ext cx="1352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federal deposit insurance protects deposi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guard against identity thef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prevent elder financial abu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Elder Financial Abus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76360" y="141768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ing an elder’s money or assets contrary to his or her wishes, needs, or best interests for the abuser’s personal ga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Elderly couple looking at their finances"/>
          <p:cNvPicPr/>
          <p:nvPr/>
        </p:nvPicPr>
        <p:blipFill>
          <a:blip r:embed="rId1"/>
          <a:stretch/>
        </p:blipFill>
        <p:spPr>
          <a:xfrm>
            <a:off x="533520" y="1600200"/>
            <a:ext cx="258120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xamples of Elder Financial Ab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ing money or proper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ging a signature or using deception to get the elderly to sign legal docu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ing property or possessions without permis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mising care in exchange for money or property, and not following throug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ing telemarketing to commit scams against older peopl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otential Perpetrat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that may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substance abuse, gambling, or othe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nd to inherit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ear inheritance will be us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had a negative relationship with the e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negative feelings towards other 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marke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o is at Ris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ders wh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re isolated or lon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recently suffered a loss of spouse, pet, or family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re ill (physically or ment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familiar with financial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ve unemployed or substance-abusing family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Older gentleman "/>
          <p:cNvPicPr/>
          <p:nvPr/>
        </p:nvPicPr>
        <p:blipFill>
          <a:blip r:embed="rId1"/>
          <a:stretch/>
        </p:blipFill>
        <p:spPr>
          <a:xfrm>
            <a:off x="6705720" y="457200"/>
            <a:ext cx="19666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Can Elders Be Made Less of a Targe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ine their lifestyle and protect them where needed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sk questions to determine their vulner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ke steps to protec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11" descr="Younger person holding the hand of an elderly person"/>
          <p:cNvPicPr/>
          <p:nvPr/>
        </p:nvPicPr>
        <p:blipFill>
          <a:blip r:embed="rId1"/>
          <a:stretch/>
        </p:blipFill>
        <p:spPr>
          <a:xfrm>
            <a:off x="3276720" y="4267080"/>
            <a:ext cx="2398680" cy="1598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Can I Be More Careful in Employing Elderly Caregiver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696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nsur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employment agency is rep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caregiver’s references/background have been 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elder’s checks, credit cards, etc. are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re is a written service agreement and log of workers, hours, salary payments, and caregiver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tion About Elder Financial Ab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8320" indent="-327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r state’s Adult Protective Services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U.S. Department of Health and Human Services’ Elder Care Loc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eldercare.gov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1-800-677-11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urance: Why the Ne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-61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6120" indent="-6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uranc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cts you (and your family) from financial loss if the unexpected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vents you from having to use funds set aside for other financial goals or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600" indent="-275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vents you from going further into debt by having to borrow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ypes of Insura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2924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fe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alth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owner’s/renter’s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uto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sability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ability insur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termining Your Nee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verage depends on your circumstanc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surance may be required in some circumstanc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vice members and their fami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how the company handles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Computer, car, and house being protected from the rain by an umbrella"/>
          <p:cNvPicPr/>
          <p:nvPr/>
        </p:nvPicPr>
        <p:blipFill>
          <a:blip r:embed="rId1"/>
          <a:stretch/>
        </p:blipFill>
        <p:spPr>
          <a:xfrm>
            <a:off x="7772400" y="228600"/>
            <a:ext cx="1241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he various types of insurance will help you manage risk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the need to plan for unexpected death or disabilit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ways you need to be financially prepared for disas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2" descr="Figure of a person holding a bag of money"/>
          <p:cNvPicPr/>
          <p:nvPr/>
        </p:nvPicPr>
        <p:blipFill>
          <a:blip r:embed="rId1"/>
          <a:stretch/>
        </p:blipFill>
        <p:spPr>
          <a:xfrm>
            <a:off x="8305920" y="366840"/>
            <a:ext cx="685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y Plan for Unexpected Life Event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ning ahead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ives you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lieves stress of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aves money and helps you avoid financial disaster or set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Woman looking ahead"/>
          <p:cNvPicPr/>
          <p:nvPr/>
        </p:nvPicPr>
        <p:blipFill>
          <a:blip r:embed="rId1"/>
          <a:stretch/>
        </p:blipFill>
        <p:spPr>
          <a:xfrm>
            <a:off x="7086600" y="1447920"/>
            <a:ext cx="16700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ng-Term Ca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define long-term car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yth or fact: Long-term care is only a concern for the elderly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yth. The need for long-term care can come at any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Woman helping an elderly woman with her medication"/>
          <p:cNvPicPr/>
          <p:nvPr/>
        </p:nvPicPr>
        <p:blipFill>
          <a:blip r:embed="rId1"/>
          <a:stretch/>
        </p:blipFill>
        <p:spPr>
          <a:xfrm>
            <a:off x="3276720" y="4191120"/>
            <a:ext cx="24318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otential Disast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987480"/>
            <a:ext cx="61722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atural or man-made disasters strike without warning and can happen to anyon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steps can you take to be financially prepared for potential disasters?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Flood water around a sign stating &quot;Danger end of storm drain&quot;"/>
          <p:cNvPicPr/>
          <p:nvPr/>
        </p:nvPicPr>
        <p:blipFill>
          <a:blip r:embed="rId1"/>
          <a:stretch/>
        </p:blipFill>
        <p:spPr>
          <a:xfrm>
            <a:off x="6934320" y="1600200"/>
            <a:ext cx="175572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To Have Read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rms of ident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checkbook with blank checks and deposit slips to last at least a mon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M, debit and credit cards, and cas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hone numbers for financial institu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ount numb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y to your safe deposit bo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1480" indent="-320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15" descr="checkbook, pen, and cash"/>
          <p:cNvPicPr/>
          <p:nvPr/>
        </p:nvPicPr>
        <p:blipFill>
          <a:blip r:embed="rId1"/>
          <a:stretch/>
        </p:blipFill>
        <p:spPr>
          <a:xfrm>
            <a:off x="6629400" y="419112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To Keep and Where To Keep It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880" y="12193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copies of important document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to keep at home and what to store in a safe deposit bo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al important documents in airtight and waterproof plastic bags/container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10" descr="Safe"/>
          <p:cNvPicPr/>
          <p:nvPr/>
        </p:nvPicPr>
        <p:blipFill>
          <a:blip r:embed="rId1"/>
          <a:stretch/>
        </p:blipFill>
        <p:spPr>
          <a:xfrm>
            <a:off x="609480" y="45720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Else To Conside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gn up for direct depos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range for automatic bill pay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gn up for Internet banking servi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view your insurance coverag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8" descr="Beginning of url address &quot;http://www&quot;"/>
          <p:cNvPicPr/>
          <p:nvPr/>
        </p:nvPicPr>
        <p:blipFill>
          <a:blip r:embed="rId1"/>
          <a:stretch/>
        </p:blipFill>
        <p:spPr>
          <a:xfrm>
            <a:off x="6553080" y="762120"/>
            <a:ext cx="1905120" cy="1251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How Financially Prepared Are You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your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swer the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600" indent="-277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ws and regulations that protect your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der financial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es of insurance to help you manage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inancial prepar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Money being passed from one hand to another's"/>
          <p:cNvPicPr/>
          <p:nvPr/>
        </p:nvPicPr>
        <p:blipFill>
          <a:blip r:embed="rId1"/>
          <a:stretch/>
        </p:blipFill>
        <p:spPr>
          <a:xfrm>
            <a:off x="7238880" y="3808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umer protection laws and regulation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ruth in Savings A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761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financial institutions to tell you the terms of deposit accounts (such as checking or savings accou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elps you make informe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Terms and conditions document with eye glasses and a pen"/>
          <p:cNvPicPr/>
          <p:nvPr/>
        </p:nvPicPr>
        <p:blipFill>
          <a:blip r:embed="rId1"/>
          <a:stretch/>
        </p:blipFill>
        <p:spPr>
          <a:xfrm>
            <a:off x="5638680" y="1676520"/>
            <a:ext cx="2895840" cy="2689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lectronic Funds Transfer A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9520" y="182880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s your liability against unauthorized use of your Automated Teller Machine (ATM)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cts against electronic transfer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erson placing card in ATM"/>
          <p:cNvPicPr/>
          <p:nvPr/>
        </p:nvPicPr>
        <p:blipFill>
          <a:blip r:embed="rId1"/>
          <a:stretch/>
        </p:blipFill>
        <p:spPr>
          <a:xfrm>
            <a:off x="990720" y="1676520"/>
            <a:ext cx="2286000" cy="3120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her Regul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dited Funds Availability Ac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-2811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mits the time a bank can a check deposited into your checking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DIC Deposit Insurance Regul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-2811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sures the funds in your deposit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Deposit Accounts Laws and Regul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5960" indent="-344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National Technologies Inc.</cp:lastModifiedBy>
  <dcterms:modified xsi:type="dcterms:W3CDTF">2010-11-01T14:24:48Z</dcterms:modified>
  <cp:revision>626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